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D078-EE1B-4B67-A8FB-5AE09C76CE2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003D-4D45-4699-AD30-4066065F500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7B71-23FE-4ABE-AB86-13BC2634D7B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68A9-86CA-486D-89DF-EDC6E94FEAF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E48C-F922-41B8-944E-FE6D12ADA9A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7D8D-C272-4826-9328-43A4103EBC5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8EC2-4FFE-4878-8193-6FE70CBC67C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785C-0150-4A85-A3DA-7ABD492F140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921F-9375-4A2C-9DFE-8500327A1AC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0296-9DC7-4C73-AC8F-9D1B39EAF07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BCF0-84B2-4508-B924-313AC2BCB63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036B-EFCE-404E-91FB-64880700A91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5E11-E58B-4F6E-A632-2C0892E51BB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D1D1-C55C-4F2C-86AC-952A4D07941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20D5-0F3C-4C7D-A2EF-89B52864C70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0C4F-2512-4A94-992B-5354148242D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7670-7105-44BD-A8F9-D1082E3F9FB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D7FD-AF2F-4656-B390-90C8AD01F1E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F22E-9BBF-48B5-94E9-4F3265F7804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95F8-5726-4E31-8C26-5D004D49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4D19-4B7C-4E9A-85B2-15C6D548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8C6C-D201-4BFE-AA61-378B342E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2466-C4C1-44AC-8B02-4A5AE041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1547-2693-4E58-B026-62F1A43D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1FA3-F863-426C-8FE1-D76E4E9B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B99B-E4BA-4A2B-8C5F-6D18A098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8B8A-2C83-4E98-8CFB-78923E5B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BCB8-EDAD-434E-9A73-05613370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2195-4CA5-48D4-89F7-6FF61C1A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CEF3-4AB3-4A11-A22B-036C0363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8B32-FF37-4A75-BF4E-443A5AB8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2B3D-947E-4786-8AC2-46002A20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C7CC-2EC9-49F6-8808-27759D62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FFA4-004A-42C3-873A-BB40A211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3B61-12C5-4429-B997-CBC35C5E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B012-5E7B-4FE0-A0DC-4C1EE759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45F5E-71A5-4344-86CC-476B8ACF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1C8A6-3D71-4D09-B9A3-DFD874BB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4D55B-7FBE-47A0-B0B7-2F2CA1D5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4636E-B41A-47EF-95E1-E0F7A55B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7052C-023E-4054-BB28-6335B505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FDC3-2646-46D8-B035-E5CB81A9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E2BFF-5C06-4570-8AFE-D18F791B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65924-D6E0-4755-9970-E0C95F0D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8D800-B212-4F63-AE6F-6AE2A312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78FA2-AB0C-4A52-BA4E-FFC8AC13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A1A0E-8214-4F6D-B9CE-4CDB8DFE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D1AB1-F8D4-4C3A-8EEC-A6B84975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01148-C24E-4B17-ADAA-9759744A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F5B7E-478B-43FD-A303-1EB39033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CEE10-563B-4D37-92E6-19AF1CC0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8BD16-106C-4394-A808-C68EAA9D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9987-CE18-412B-B6F5-E0EEE21B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F9B18-DD86-46BC-A717-88B20802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63D48-66B2-4C37-B8E0-1F490D8C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EB96B-6129-43DA-A01D-9D764B2E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83D1A-9FE5-4421-8BE4-A082C6EB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498AA-C3CF-4147-B7E1-E567BAE1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87E7A-A8CD-48C7-A8C4-04418A47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B15A3-DE11-4FC7-8C4E-F230AE47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8E3EE-D473-4DA2-AB0D-4908B925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3FC47-F4EF-45AE-8E47-02CFB719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309A6-22E9-4828-8E9B-AD97C7B1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A9E1-4D33-44DC-B2A6-D04CBBA0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B39B2-F1BE-4899-A4B2-C54ECE22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3888E-D403-484C-82B0-8348DF57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1347A-F08A-439A-B3F0-537598AA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2E479-099F-4EF0-B6CD-D38964EA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342D7-F3FB-4309-8C2C-F2E23A63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04540-A9E6-4049-9167-26F31147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EA5E9-340F-44D3-95D9-5A1D2010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6ACA0-3712-4BCC-9DDF-13520709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15E18-871E-44A2-A0FE-36553EB6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A3E3E-73B4-44A4-ACCC-13DDC4CC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B7A-E363-45DD-8E33-16BA2C68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DEDD4-038D-4089-AD6C-49445250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0818D-9D3E-4814-837D-EA2FBA41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5CE36-ADF1-4106-8F85-8C3342B8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13865-2B8D-4AAB-AA10-C475B4DC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98D31-BC9B-4C4E-ABA3-E994E792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86527-8C27-4A12-A0C0-BF31E7F6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01187-C5B4-48F0-86B5-7DF372C7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CB292-45CC-4EB3-B096-F1E87AF6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125C1-92DA-4088-B7F8-CC73F707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8373A-F5C0-42BA-AEBB-2ADDE54F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2C14-1AC5-4AFD-B82F-0CF64A89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2DAE7-EE6D-46B3-8891-373737C5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779C9-A704-4884-A8DD-D3C01752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8321D-26B7-4066-BB83-90832930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00FDB-66AD-4457-8F3C-9F127653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51C3B-15EC-4A7A-9631-3D83E3E9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70F78-7948-4B73-8146-495D9FEB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A795D-E58B-4E83-A54E-03D58B55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01F61-62FE-4649-BC84-44E5551F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00CC8-2970-4D1E-95F4-FC8210A3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D8BC9-DEC2-47AC-8F4C-859BACBF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5DAB-5DD5-4801-A587-DE9307AF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5A457-DAA2-4726-9588-8B0B0FD5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D3F21-9D1B-4F51-9234-5E9F4CEA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60219-4A50-4E24-952F-3FA56BF6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F7F4A-2553-4745-A460-23621E31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75D29-69EB-4E6F-AC4F-B891DBF7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67FF-3AA2-48B0-8A96-C2554D96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A0A1-3319-497F-886E-0CB7B5C58BE1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4BF7-529F-46CD-AFD1-A45946306D2F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FE7C-2745-4375-94B5-1D81F663CB43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CDF5-29AC-462C-97DC-33D0351B4BA7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85DC-12B5-4BAE-9906-624CB939AD5C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387E-E206-481C-8242-C224B2D70578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E9CB-FFF5-43B3-90BC-3C2B4627882C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00120" y="10713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en-US" sz="4400" spc="-1" strike="noStrike">
                <a:solidFill>
                  <a:srgbClr val="572314"/>
                </a:solidFill>
                <a:latin typeface="Arial"/>
                <a:ea typeface="Arial"/>
              </a:rPr>
              <a:t>Finansijski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sr-Latn-CS" sz="4400" spc="-1" strike="noStrike">
                <a:solidFill>
                  <a:srgbClr val="572314"/>
                </a:solidFill>
                <a:latin typeface="Arial"/>
                <a:ea typeface="Arial"/>
              </a:rPr>
              <a:t>menadžmen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736640" y="27147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320e04"/>
                </a:solidFill>
                <a:latin typeface="Arial"/>
                <a:ea typeface="Arial"/>
              </a:rPr>
              <a:t>Analiza finansijskih izvješta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214280" y="1285920"/>
          <a:ext cx="7499520" cy="4719600"/>
        </p:xfrm>
        <a:graphic>
          <a:graphicData uri="http://schemas.openxmlformats.org/drawingml/2006/table">
            <a:tbl>
              <a:tblPr/>
              <a:tblGrid>
                <a:gridCol w="3065760"/>
                <a:gridCol w="2357280"/>
                <a:gridCol w="2076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ilans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prihodi od pr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7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ošak prodatih proizv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profit (marža pokrić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prodaje, opšti i administrativni rasho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iz poslovanja (EBI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dobit (EB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ez na do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600" y="1213920"/>
            <a:ext cx="7494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rast od 58.000 u 2002 godini mora biti jednak iznosima iz bilansa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2       1.014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1          956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većanje zadržane zarade       58.000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500120" y="2000160"/>
          <a:ext cx="6096240" cy="1482840"/>
        </p:xfrm>
        <a:graphic>
          <a:graphicData uri="http://schemas.openxmlformats.org/drawingml/2006/table">
            <a:tbl>
              <a:tblPr/>
              <a:tblGrid>
                <a:gridCol w="2928960"/>
                <a:gridCol w="1571760"/>
                <a:gridCol w="1595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/smanjenj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poslov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investicio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aktivnosti finansir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214280" y="1857240"/>
          <a:ext cx="7499520" cy="2764080"/>
        </p:xfrm>
        <a:graphic>
          <a:graphicData uri="http://schemas.openxmlformats.org/drawingml/2006/table">
            <a:tbl>
              <a:tblPr/>
              <a:tblGrid>
                <a:gridCol w="4999320"/>
                <a:gridCol w="250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generisana iz poslovnih aktivnost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(pocetno stanje gotov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laćene kamat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ovećanja potraž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4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kratk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nih obaveza iz poslovanja (dobavlja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6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352" name="TextBox 6"/>
          <p:cNvSpPr/>
          <p:nvPr/>
        </p:nvSpPr>
        <p:spPr>
          <a:xfrm>
            <a:off x="1071720" y="47149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Poslovne aktivnosti  se vezuju i za zalihe, amortizaciju, obaveze po osnovu hov, doprinosa, poreza, kam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143000" y="1785960"/>
          <a:ext cx="7497720" cy="3475080"/>
        </p:xfrm>
        <a:graphic>
          <a:graphicData uri="http://schemas.openxmlformats.org/drawingml/2006/table">
            <a:tbl>
              <a:tblPr/>
              <a:tblGrid>
                <a:gridCol w="5357880"/>
                <a:gridCol w="213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nabavke nekretnina, opreme i nematerijalnih ula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53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ulaganja u kratkoročne finansijske plasmane – oročeni depozi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dugoročnih finansijskih plasmana (kam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rodaje stalne imov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9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 tok gotovine (odliv)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11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285920" y="2071800"/>
          <a:ext cx="7499160" cy="1854000"/>
        </p:xfrm>
        <a:graphic>
          <a:graphicData uri="http://schemas.openxmlformats.org/drawingml/2006/table">
            <a:tbl>
              <a:tblPr/>
              <a:tblGrid>
                <a:gridCol w="5143320"/>
                <a:gridCol w="2355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aktivnosti finansir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ovećanja dug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3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isplate dividen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34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otplate kratk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20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aktivnost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85560" y="1214280"/>
            <a:ext cx="749772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142920" y="2170080"/>
            <a:ext cx="9001080" cy="40831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6"/>
          <p:cNvSpPr/>
          <p:nvPr/>
        </p:nvSpPr>
        <p:spPr>
          <a:xfrm>
            <a:off x="1214280" y="628668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Telekom gr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inansijska racija ili indeksi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ružaju veoma bitne informacije (prinos, aktivnost, zaduženost i sl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oraju biti smisle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zalihe/emisiona prem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tekućeg i budućeg stanja, komparacija sa prošlim stanjem – in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omparacija preduzeća sa industrijskom granom ili prosjekom – eks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HVALA NA PAŽNJI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800" spc="-1" strike="noStrike">
                <a:solidFill>
                  <a:srgbClr val="572314"/>
                </a:solidFill>
                <a:latin typeface="Arial"/>
              </a:rPr>
              <a:t>– </a:t>
            </a:r>
            <a:r>
              <a:rPr b="0" i="1" lang="sr-Latn-CS" sz="2800" spc="-1" strike="noStrike">
                <a:solidFill>
                  <a:srgbClr val="572314"/>
                </a:solidFill>
                <a:latin typeface="Arial"/>
              </a:rPr>
              <a:t>pojam – </a:t>
            </a:r>
            <a:br>
              <a:rPr sz="24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71720" y="1142640"/>
            <a:ext cx="7858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-je odlučivanja finansijskog menadžmenta – investiranje, finansiranje i upravljanje imovin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lj menadžera – maksimiziranje bogatstva akciona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pjeh poslovne odluke se reflektuje kroz cijenu akcije na tržišt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ksimiziranje zarade po akciji (EP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sim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iranje tržišne cijene ak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agenta – agency problem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lasnik vs menadž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ukovodilac finans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ukovodilac računovodst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ažnost finansijskog menadžmen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Šta je finansijski izvještaj (bilans)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i 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movina: stalna i obrtna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aktiv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baveze i imovina vlasnika (kaptial)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pas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lika stanja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iznosi su prikazani u hiljad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214280" y="1785960"/>
          <a:ext cx="7643880" cy="3349440"/>
        </p:xfrm>
        <a:graphic>
          <a:graphicData uri="http://schemas.openxmlformats.org/drawingml/2006/table">
            <a:tbl>
              <a:tblPr/>
              <a:tblGrid>
                <a:gridCol w="2857680"/>
                <a:gridCol w="2500200"/>
                <a:gridCol w="228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ac i novčani ek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taživanja od kup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li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aprijed plaćeni troško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i plaćeni por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tna (tekuća)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285920" y="1857240"/>
          <a:ext cx="7499160" cy="2600640"/>
        </p:xfrm>
        <a:graphic>
          <a:graphicData uri="http://schemas.openxmlformats.org/drawingml/2006/table">
            <a:tbl>
              <a:tblPr/>
              <a:tblGrid>
                <a:gridCol w="3502080"/>
                <a:gridCol w="1992240"/>
                <a:gridCol w="2004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ksna imovina po nabavnoj cije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a amortiz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7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fiks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e investi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dugoroč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a stal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434960" y="1447920"/>
          <a:ext cx="7499520" cy="2971800"/>
        </p:xfrm>
        <a:graphic>
          <a:graphicData uri="http://schemas.openxmlformats.org/drawingml/2006/table">
            <a:tbl>
              <a:tblPr/>
              <a:tblGrid>
                <a:gridCol w="4432320"/>
                <a:gridCol w="1419480"/>
                <a:gridCol w="164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nkarski zajmovi i obaveze po izdatim h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č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ačunati pore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e obračunat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kuć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i d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285920" y="1785960"/>
          <a:ext cx="7499160" cy="2595600"/>
        </p:xfrm>
        <a:graphic>
          <a:graphicData uri="http://schemas.openxmlformats.org/drawingml/2006/table">
            <a:tbl>
              <a:tblPr/>
              <a:tblGrid>
                <a:gridCol w="3779640"/>
                <a:gridCol w="1928880"/>
                <a:gridCol w="1790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cionarski k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ične ak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misiona p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držana za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i kapital akcion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285560" y="1428480"/>
            <a:ext cx="764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i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as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ezult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fitabilnost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1:48:27Z</dcterms:created>
  <dc:creator>Ana</dc:creator>
  <dc:description/>
  <dc:language>en-US</dc:language>
  <cp:lastModifiedBy>boris</cp:lastModifiedBy>
  <dcterms:modified xsi:type="dcterms:W3CDTF">2012-09-21T12:41:16Z</dcterms:modified>
  <cp:revision>91</cp:revision>
  <dc:subject/>
  <dc:title>Finansijski menadžment</dc:title>
</cp:coreProperties>
</file>